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A11-4F47-4CD1-A96D-3C6B2D9B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59C-BD3C-4F62-9287-93B6F229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372-8711-4027-BBEA-9AFD4F23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027-EFC7-45AB-9AA1-66F70E36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EE5-3F8A-4BEF-AC7D-FEBBC7C6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481-21F0-4048-BF44-0FB6A2E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0C26-9393-4083-9FD1-7D69892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EB11-6981-4E8D-A222-55CE4D3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315F-F07E-48F2-AFC3-FE4AEB48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6D88-CA93-4503-823D-3AD9972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E41E-128C-4AAB-B65C-BBA4010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C61-9E3E-40D8-9C28-9DE4602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418-0512-4BA2-89AC-B63C48A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35D-2BDF-4668-BCAB-D00F666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C95-79F2-4A7B-B8D3-2479AFF9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EFAF-A399-42F4-A3A4-46A83C7D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8A0-230F-4637-8C3D-52F77DB9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9F9-A0C8-4F68-833B-BE24C071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96-14E2-4A5F-B328-18D96B1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811-81BC-4AB6-81AC-521B9479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6CD-B4E2-46A4-A866-86A4116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EFB-A623-4489-9C5F-4099619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7BE-0F0E-4C4C-9252-1562F5C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714-E888-409C-B562-1901DC9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17C-A9EE-48CB-8E0D-192C5276AC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2A1-6B58-4EC7-889F-CB4CA83B5C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0:48:31Z</dcterms:modified>
  <cp:revision>2</cp:revision>
  <dc:subject/>
  <dc:title>Slide 1</dc:title>
</cp:coreProperties>
</file>